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11B8-CEAA-4C8E-851A-C755E3A5B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57BB-5CAC-47B6-8C71-61561499C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0075-4919-4A15-95AD-55A505388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BE13-0DFB-4D25-A1B8-F51F77840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1FEE2-E82D-46E6-BAC7-AD8B4CC81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5E8FD-D032-4FF1-8E83-AF0B7AF02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332DD-4363-4AB2-A78B-4197E6538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E37E5-7DA6-4BF9-A4E4-CD2F5E6E7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F0B3B-5272-49D6-AF58-A4074DE4D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B2EC4-E9EC-4C94-8485-39C012368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EE302-919B-49C0-A708-B176A815F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E4D0-2B6E-4C01-98DC-76479F058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9DF84-F5B0-4C79-A7D2-AC2FFE4C7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F26B6-BEA2-465C-9E24-C0611E2CD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3146A-A06E-4BE5-91FE-41431DF33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75BF7-1503-451E-8C1A-044C2C512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2E327-F350-4D77-B2F7-69EB16912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8B31A5-01D7-419D-8BC8-A0BD9F401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8D233F-2F8F-45AD-BD06-E2CBF3592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8C8906-0E49-43F0-9A4F-4D0B4DEB6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D555B0-60A5-4B71-8F12-9A1FCA18F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2FB18D-70EE-4840-9368-BE8D342A9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8461-B108-4E77-8AC3-3382D1ABD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3DDD70-E9E1-4C58-90D5-099DA9D3B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AA6B3D-ADA2-47E0-9C41-B9537C5D7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46D2B1-7432-4869-A8DD-6286EADCD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18F363-0491-4099-99DD-AC44AB646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CA238E-9CC9-4D5F-9CE9-8F0ADE50F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79A204-4818-4F2F-92F6-FAEA98A85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799CCE-3121-4322-B466-2A61A7132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164A00-12DD-400F-A1A0-59F19BAC1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5DC892-B614-4146-B92C-A814EE719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D5785A-B5D8-4D32-8262-D22AE6E55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1D3F-E379-407A-9C13-68FBF32CE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6F3890-7F4C-4512-95BC-FA03721C2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6CC33E-ED80-4FD6-87CF-019A7DC35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B5DC53-9351-4732-A86A-26EE23A3B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151A24-36EA-464C-9E6B-9640412E8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800E2A-3C45-4803-87AA-F0ED42659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B74930-BFDB-414A-AFF6-C090E4977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E6D781-8749-443B-B0C2-D2B4ADA2D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BF4AD5-951F-4CF5-B3F8-2E98E3D54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6B4E29-420B-42BF-82AD-811F9E0F5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CC1201-76F9-46A4-B1D5-4B7E7034D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00E8-F476-4606-803A-83E8C028C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5459ED-40AB-4421-823C-24C451735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536901-5F64-48EC-BAD4-8AB1972EE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E2D1BE-EB67-46F5-9894-DAB1A6934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6E7448-7BC1-41A3-8DB5-EC83EDEF1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A77286-6525-4BC6-A6E3-0EF4FB6A2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E0D1E8-7C67-4511-BF98-FF6A64DFF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8C1A6D-02EE-4A07-BDED-8ED59546B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CA2604-16B3-493F-8030-F149426C5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B70121-5C78-486A-9B48-F9C7CCAD3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F04B1E-C971-4A3D-81EA-CAFDBA20A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32EC-BF2D-4F9E-9172-BB59305C9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7B5F37-6602-4639-BE21-342D9B689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5848-00C3-4411-857B-B4F420CBB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784F-6A57-4B98-9E0B-E6814A4F2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839B-34DD-4AF7-A807-1C7C716EA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1B5BF-E2EB-48E7-BC04-10FBBF92ECA7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63007-B52D-44E1-B1E4-0AE4C50C4A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4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5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98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511F3-3B72-48B1-BA5A-D340939DDE34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44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45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48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86340-662C-464D-8E32-926F53AD92D2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 type="sldNum" idx="15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DA81C-A05C-49DE-85B3-5D4A2E362B57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5" descr="trans-siberia-tour-three-cities"/>
          <p:cNvPicPr/>
          <p:nvPr/>
        </p:nvPicPr>
        <p:blipFill>
          <a:blip r:embed="rId1"/>
          <a:stretch/>
        </p:blipFill>
        <p:spPr>
          <a:xfrm>
            <a:off x="0" y="-17640"/>
            <a:ext cx="10439280" cy="6875640"/>
          </a:xfrm>
          <a:prstGeom prst="rect">
            <a:avLst/>
          </a:prstGeom>
          <a:ln w="0">
            <a:noFill/>
          </a:ln>
        </p:spPr>
      </p:pic>
      <p:pic>
        <p:nvPicPr>
          <p:cNvPr id="237" name="Rectangle 2" descr=""/>
          <p:cNvPicPr/>
          <p:nvPr/>
        </p:nvPicPr>
        <p:blipFill>
          <a:blip r:embed="rId2"/>
          <a:stretch/>
        </p:blipFill>
        <p:spPr>
          <a:xfrm>
            <a:off x="1365120" y="-6480"/>
            <a:ext cx="8358480" cy="160344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3428640" y="2209680"/>
            <a:ext cx="5334120" cy="19051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99"/>
                </a:solidFill>
                <a:latin typeface="Juice ITC"/>
              </a:rPr>
              <a:t>By:</a:t>
            </a:r>
            <a:r>
              <a:rPr b="1" lang="en-US" sz="6000" spc="-1" strike="noStrike">
                <a:solidFill>
                  <a:srgbClr val="cc66ff"/>
                </a:solidFill>
                <a:latin typeface="Juice ITC"/>
              </a:rPr>
              <a:t> </a:t>
            </a:r>
            <a:r>
              <a:rPr b="1" lang="en-US" sz="6000" spc="-1" strike="noStrike">
                <a:solidFill>
                  <a:srgbClr val="cc00ff"/>
                </a:solidFill>
                <a:latin typeface="Juice ITC"/>
              </a:rPr>
              <a:t>Alissa Tam</a:t>
            </a:r>
            <a:r>
              <a:rPr b="1" lang="en-US" sz="6000" spc="-1" strike="noStrike">
                <a:solidFill>
                  <a:srgbClr val="cc66ff"/>
                </a:solidFill>
                <a:latin typeface="Juice ITC"/>
              </a:rPr>
              <a:t> </a:t>
            </a:r>
            <a:r>
              <a:rPr b="1" lang="en-US" sz="6000" spc="-1" strike="noStrike">
                <a:solidFill>
                  <a:srgbClr val="ff3399"/>
                </a:solidFill>
                <a:latin typeface="Juice ITC"/>
              </a:rPr>
              <a:t>and</a:t>
            </a:r>
            <a:r>
              <a:rPr b="1" lang="en-US" sz="6000" spc="-1" strike="noStrike">
                <a:solidFill>
                  <a:srgbClr val="cc66ff"/>
                </a:solidFill>
                <a:latin typeface="Juice ITC"/>
              </a:rPr>
              <a:t> </a:t>
            </a:r>
            <a:r>
              <a:rPr b="1" lang="en-US" sz="6000" spc="-1" strike="noStrike">
                <a:solidFill>
                  <a:srgbClr val="66ff33"/>
                </a:solidFill>
                <a:latin typeface="Juice ITC"/>
              </a:rPr>
              <a:t>Bridget Durgin </a:t>
            </a:r>
            <a:endParaRPr b="0" lang="en-US" sz="6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split dir="out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385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" dur="385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" dur="385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" dur="385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31" dur="10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d0d0d"/>
                </a:solidFill>
                <a:latin typeface="Bauhaus 93"/>
              </a:rPr>
              <a:t>Water Transporta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ecff"/>
                </a:solidFill>
                <a:latin typeface="Goudy Stout"/>
              </a:rPr>
              <a:t>Many Russian rivers run from south to north making their use difficult during the winter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ecff"/>
                </a:solidFill>
                <a:latin typeface="Goudy Stout"/>
              </a:rPr>
              <a:t>Most ports are covered in snow and ice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ecff"/>
                </a:solidFill>
                <a:latin typeface="Goudy Stout"/>
              </a:rPr>
              <a:t>The traders must transport their goods another 200 miles to reach the nearest part of inland Russia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0287000" cy="685800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Matura MT Script Capitals"/>
              </a:rPr>
              <a:t>Port Citi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20680" indent="-2206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Juice ITC"/>
              </a:rPr>
              <a:t>Russia has two important ports called Kaliningrad and St. Petersburg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Juice ITC"/>
              </a:rPr>
              <a:t>Kaliningrad is located on a small island in the Baltic Sea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Juice ITC"/>
              </a:rPr>
              <a:t>It’s the only port that stays ice-free the whole year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Juice ITC"/>
              </a:rPr>
              <a:t>In the summer they have the choice of keeping their goods on the ships to travel 500 miles to St. Petersburg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8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2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3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4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5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137" dur="20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140" dur="20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143" dur="20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146" dur="2000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47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Ravie"/>
              </a:rPr>
              <a:t>Railroad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avie"/>
              </a:rPr>
              <a:t>Railroad travel is the main transportation of Russia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avie"/>
              </a:rPr>
              <a:t>In 1995 Russia had 154,000km of railroads but 26% of them were electrified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avie"/>
              </a:rPr>
              <a:t>Railroad traffic dropped since the beginning of the Russian economic reform, making the economy bad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edge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73" dur="10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41,-30)"/>
                                          </p:val>
                                        </p:tav>
                                        <p:tav tm="50000">
                                          <p:val>
                                            <p:strVal val="rgb(-39,-99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4" dur="10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41,-30)"/>
                                          </p:val>
                                        </p:tav>
                                        <p:tav tm="50000">
                                          <p:val>
                                            <p:strVal val="rgb(-39,-99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5" dur="10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xit" presetID="4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0" dur="1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flt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3" dur="1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xit" presetID="4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6" dur="1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flt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9" dur="1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xit" presetID="4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2" dur="1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flt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5" dur="1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f3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6699"/>
                </a:solidFill>
                <a:latin typeface="Kristen ITC"/>
              </a:rPr>
              <a:t>Air Transporta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6699"/>
                </a:solidFill>
                <a:latin typeface="Jokerman"/>
              </a:rPr>
              <a:t>The donation of air service of total travel has dropped to 12.5% by 1993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6699"/>
                </a:solidFill>
                <a:latin typeface="Jokerman"/>
              </a:rPr>
              <a:t>The number of passengers flying was less then half the 1990 total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6699"/>
                </a:solidFill>
                <a:latin typeface="Jokerman"/>
              </a:rPr>
              <a:t>They pay part of air fares and long distance flights between cities accounted for much of the air activity in the early 1990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strips dir="ru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3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xit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27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4" dur="10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0" dur="10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6" dur="10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7" descr="image1"/>
          <p:cNvPicPr/>
          <p:nvPr/>
        </p:nvPicPr>
        <p:blipFill>
          <a:blip r:embed="rId1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urlz MT"/>
              </a:rPr>
              <a:t>Public Transporta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urlz MT"/>
              </a:rPr>
              <a:t>Soviet citizens rely on public transportation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urlz MT"/>
              </a:rPr>
              <a:t>Only six Russian cities have underground transportation, Moscow, St. Petersburg, Yekaterinburg, Nizhniy, Novgorod, Novosibirsk, and Samara.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urlz MT"/>
              </a:rPr>
              <a:t>A lot of vehicles require expensive repair and modernization.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strips dir="rd"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78" dur="10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1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6" dur="10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8" dur="10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1" dur="100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3" dur="100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6" dur="1000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8" dur="1000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Title 1" descr=""/>
          <p:cNvPicPr/>
          <p:nvPr/>
        </p:nvPicPr>
        <p:blipFill>
          <a:blip r:embed="rId1"/>
          <a:stretch/>
        </p:blipFill>
        <p:spPr>
          <a:xfrm>
            <a:off x="109440" y="-579600"/>
            <a:ext cx="9442440" cy="734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15:10:15Z</dcterms:created>
  <dc:creator>Student</dc:creator>
  <dc:description/>
  <dc:language>en-US</dc:language>
  <cp:lastModifiedBy>Alissa Tam</cp:lastModifiedBy>
  <dcterms:modified xsi:type="dcterms:W3CDTF">2010-12-23T01:29:06Z</dcterms:modified>
  <cp:revision>16</cp:revision>
  <dc:subject/>
  <dc:title>Movement</dc:title>
</cp:coreProperties>
</file>